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CAA7-F704-44D6-A6CC-D5D9AE2E5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C47E-FD18-49A2-B2D4-0DD8E4C4EE7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4987-C217-41AD-8969-A7141DE53C6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E730-6FD2-485E-9F37-8EA19F31E28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8A13-7675-4731-AF14-25C27C683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814F-8CDF-4C5A-9E5C-41F71D96AC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1737-A175-46FC-A32E-BDF7A5DEB9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DBFA-5C3D-4D88-808C-8D96D022EAA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401D-6048-4164-9875-98AB3505CE4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6A780-FB2E-4D2F-B0D5-1220716B2B6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A378-7033-4359-B961-E510F4FEC4F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D6AC-3189-4974-9D4B-7A7408C0689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0" y="464832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0" y="4724280"/>
            <a:ext cx="1463760" cy="712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1544760" y="4724280"/>
            <a:ext cx="7599240" cy="712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225360" y="7308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821720" y="128520"/>
            <a:ext cx="1120680" cy="111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380880" y="6019920"/>
            <a:ext cx="1430280" cy="72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2"/>
          <a:stretch/>
        </p:blipFill>
        <p:spPr>
          <a:xfrm>
            <a:off x="128520" y="157320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3"/>
          <a:stretch/>
        </p:blipFill>
        <p:spPr>
          <a:xfrm>
            <a:off x="7997760" y="1444680"/>
            <a:ext cx="1146240" cy="1146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380880" y="6068880"/>
            <a:ext cx="1430280" cy="728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600200" y="4800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ading Teams</a:t>
            </a:r>
            <a:endParaRPr b="0" i="1" lang="en-US" sz="28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46b86"/>
                </a:solidFill>
                <a:latin typeface="Arial"/>
              </a:rPr>
              <a:t>High Leverage Behaviors</a:t>
            </a:r>
            <a:br>
              <a:rPr sz="4000"/>
            </a:br>
            <a:r>
              <a:rPr b="0" i="1" lang="en-US" sz="4000" spc="-1" strike="noStrike">
                <a:solidFill>
                  <a:srgbClr val="646b86"/>
                </a:solidFill>
                <a:latin typeface="Arial"/>
              </a:rPr>
              <a:t>Losada: Flourishing Teams</a:t>
            </a:r>
            <a:endParaRPr b="0" i="1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6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sitive vs.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ositive: support, appreciation, encourag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Negative: disapproval, sarcasm, cynicis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quiry vs Advoc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nquiry: questions to explore others’ think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dvocacy: championing my own vi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ther vs 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Other: refer to another person, group, compa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lf: refer to self, this group this compa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Ratios – Not Quantities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518" name="Content Placeholder 3" descr="Screen Shot 2014-09-03 at 11.06.34 AM.png"/>
          <p:cNvPicPr/>
          <p:nvPr/>
        </p:nvPicPr>
        <p:blipFill>
          <a:blip r:embed="rId1"/>
          <a:srcRect l="0" t="-16613" r="0" b="-1661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Value Destroying Behaviors </a:t>
            </a:r>
            <a:br>
              <a:rPr sz="4400"/>
            </a:br>
            <a:r>
              <a:rPr b="0" i="1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Creating a damaging environment</a:t>
            </a:r>
            <a:r>
              <a:rPr b="0" i="1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271440" y="1389240"/>
            <a:ext cx="8618400" cy="60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Holding Back/Holding in</a:t>
            </a:r>
            <a:r>
              <a:rPr b="1" lang="en-GB" sz="1500" spc="-1" strike="noStrike">
                <a:solidFill>
                  <a:srgbClr val="009286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contributing because something/someone hurt you. Your energy is held in, you are physically present but your true energy is abs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Blaming/Accusative Tone-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being constructive. You are here to find someone to beat up verbally, the tone of your voice is signalling it is someone else’s faul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Dismissive/Diminishing -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eople are speaking, but you are not attending to them. When you do respond it is to minimize or diminish the significance of what was sai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Fightback not feedback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felt attacked or punished rather than given constructive feedback. You decide to attack back and an aggressive spiral develops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Gotchya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having an open conversation, you are selectively listening and drawing in the other person to a place where there can be only one conclusion, yours! You win, they lose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Compensation/Displacemen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- Someone or something annoyed you, but rather than address the issue, you compensate or offset the feeling by doing something el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Cynicism -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Rather than constructively disagree, you use exaggeration, negative amplification</a:t>
            </a: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and apparent humour to divert away from the point being mad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Discouraging feedback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- You block feedback and punish those who try to give it, you are not interested in the perceptions of others, you project superiority which may be masking anxie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2"/>
          <p:cNvGraphicFramePr/>
          <p:nvPr/>
        </p:nvGraphicFramePr>
        <p:xfrm>
          <a:off x="7924680" y="6095880"/>
          <a:ext cx="94140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6095880"/>
                    <a:ext cx="9414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18"/>
          <p:cNvSpPr/>
          <p:nvPr/>
        </p:nvSpPr>
        <p:spPr>
          <a:xfrm>
            <a:off x="103320" y="6400800"/>
            <a:ext cx="28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www.mobilizingteam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Value Building Behaviors 6+2</a:t>
            </a:r>
            <a:br>
              <a:rPr sz="4400"/>
            </a:br>
            <a:r>
              <a:rPr b="0" i="1" lang="ja-JP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Creating a flourishing environment</a:t>
            </a:r>
            <a:r>
              <a:rPr b="0" i="1" lang="ja-JP" sz="3200" spc="-1" strike="noStrike">
                <a:solidFill>
                  <a:srgbClr val="008000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262080" y="1523880"/>
            <a:ext cx="86184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Active Listening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lps me really understand your position, and makes you feel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Open Question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courages you to share thoughts, ideas and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ummarising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ables us to have the same understanding of the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uppor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hows I appreciate you and your contribution – allows me to build on you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Challen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s how I constructively disagree with you and how I can help improve ou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Clarify or Contrac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ables me to know exactly what I will do, why I am doing it and how my efforts fit in with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Time Ou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ops the action so we can re-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Review and Feedback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ables us to continuously improve ou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3"/>
          <p:cNvSpPr/>
          <p:nvPr/>
        </p:nvSpPr>
        <p:spPr>
          <a:xfrm>
            <a:off x="0" y="6324480"/>
            <a:ext cx="27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www.mobilizingteam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Object 2"/>
          <p:cNvGraphicFramePr/>
          <p:nvPr/>
        </p:nvGraphicFramePr>
        <p:xfrm>
          <a:off x="8199360" y="6259680"/>
          <a:ext cx="94140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9360" y="6259680"/>
                    <a:ext cx="9414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Personal Energy Managemen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533520" y="1600200"/>
            <a:ext cx="8232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 with your partner to discu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our old stor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our new stor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is your ultimate mission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is your first training mission (physical, mental, emotional spiritual)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y did you pick this to be your first mission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research have you gathered to help you understand this mission more full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rituals have you put in pl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progress have you mad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have others noticed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w has it impacted your leadership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4T18:49:19Z</dcterms:created>
  <dc:creator>Trish Mooney</dc:creator>
  <dc:description/>
  <dc:language>en-US</dc:language>
  <cp:lastModifiedBy>Claire Meany</cp:lastModifiedBy>
  <dcterms:modified xsi:type="dcterms:W3CDTF">2016-06-04T12:53:10Z</dcterms:modified>
  <cp:revision>11</cp:revision>
  <dc:subject/>
  <dc:title>WELCOME TO....</dc:title>
</cp:coreProperties>
</file>